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ADBD-40C2-40AA-B9D2-84FFC1E5E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AFB0-090D-458B-9355-39793F802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A010-F928-4DDD-8DA0-5743734D5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8581-4E60-4202-BCE8-E0B3EDB05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753-1270-409F-B098-43B3D622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A86-D315-48E2-B907-0F6B5B90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7E0-25DC-45CF-BA5C-04D8E86C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630-FF92-4B53-A79F-D8980C8B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760-961B-4136-AA1C-1E222CFE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F9D-294A-40BA-AA96-DC1BFEDB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555-6041-4D50-B7B4-A1587F13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707-0D7D-42BD-993B-A752D457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A8C-D6BB-43F6-B8D2-2842535F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B0A3-840A-48AB-9C95-D5F8C09D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2D6-5934-433D-A235-EDD731A8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457B-ED26-45A6-BFC1-726D05F6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4EDE-B08E-4107-9A66-40FDD29CA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3.xml"/><Relationship Id="rId10" Type="http://schemas.openxmlformats.org/officeDocument/2006/relationships/slide" Target="slide18.xml"/><Relationship Id="rId11" Type="http://schemas.openxmlformats.org/officeDocument/2006/relationships/slide" Target="slide23.xml"/><Relationship Id="rId12" Type="http://schemas.openxmlformats.org/officeDocument/2006/relationships/slide" Target="slide4.xml"/><Relationship Id="rId13" Type="http://schemas.openxmlformats.org/officeDocument/2006/relationships/slide" Target="slide9.xml"/><Relationship Id="rId14" Type="http://schemas.openxmlformats.org/officeDocument/2006/relationships/slide" Target="slide14.xml"/><Relationship Id="rId15" Type="http://schemas.openxmlformats.org/officeDocument/2006/relationships/slide" Target="slide19.xml"/><Relationship Id="rId16" Type="http://schemas.openxmlformats.org/officeDocument/2006/relationships/slide" Target="slide24.xml"/><Relationship Id="rId17" Type="http://schemas.openxmlformats.org/officeDocument/2006/relationships/slide" Target="slide5.xml"/><Relationship Id="rId18" Type="http://schemas.openxmlformats.org/officeDocument/2006/relationships/slide" Target="slide10.xml"/><Relationship Id="rId19" Type="http://schemas.openxmlformats.org/officeDocument/2006/relationships/slide" Target="slide15.xml"/><Relationship Id="rId20" Type="http://schemas.openxmlformats.org/officeDocument/2006/relationships/slide" Target="slide20.xml"/><Relationship Id="rId21" Type="http://schemas.openxmlformats.org/officeDocument/2006/relationships/slide" Target="slide25.xml"/><Relationship Id="rId22" Type="http://schemas.openxmlformats.org/officeDocument/2006/relationships/slide" Target="slide6.xml"/><Relationship Id="rId23" Type="http://schemas.openxmlformats.org/officeDocument/2006/relationships/slide" Target="slide11.xml"/><Relationship Id="rId24" Type="http://schemas.openxmlformats.org/officeDocument/2006/relationships/slide" Target="slide16.xml"/><Relationship Id="rId25" Type="http://schemas.openxmlformats.org/officeDocument/2006/relationships/slide" Target="slide21.xml"/><Relationship Id="rId26" Type="http://schemas.openxmlformats.org/officeDocument/2006/relationships/slide" Target="slide26.xml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60" descr="mels_question_md_blk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25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co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rar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rar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cabul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cabulary Con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6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62" descr="ReverseLogo"/>
          <p:cNvPicPr/>
          <p:nvPr/>
        </p:nvPicPr>
        <p:blipFill>
          <a:blip r:embed="rId27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232720" y="1752480"/>
            <a:ext cx="509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es water affect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owth of plant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799280" y="1752480"/>
            <a:ext cx="619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lant was most success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terrarium and how did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 it was successfu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212920" y="1752480"/>
            <a:ext cx="417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terrariu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2213280" y="1752480"/>
            <a:ext cx="534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5 factors did you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create a terrarium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215080" y="1752480"/>
            <a:ext cx="61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id the nonliving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fluence the living factor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errarium?  Give an exam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2214000" y="1752480"/>
            <a:ext cx="586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environmental f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yed the biggest role in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growth?  Expl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215440" y="1752480"/>
            <a:ext cx="563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factors might affec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owth of your plants if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eated the investigation at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fferent time of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2212200" y="1752480"/>
            <a:ext cx="445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living th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214000" y="1752480"/>
            <a:ext cx="502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nonliving th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214720" y="1752480"/>
            <a:ext cx="536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germinate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233080" y="1752480"/>
            <a:ext cx="430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there living th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ecosyste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239920" y="1752480"/>
            <a:ext cx="512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biotic and abio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ctors?  Give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bo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214000" y="1752480"/>
            <a:ext cx="506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dormant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organis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nviron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212560" y="1752480"/>
            <a:ext cx="569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nvironment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cto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bio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viable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233080" y="1752480"/>
            <a:ext cx="4318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two exampl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ngs you may find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co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558440" y="1755720"/>
            <a:ext cx="637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one way humans intera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 ecosyste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821880" y="1676520"/>
            <a:ext cx="671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cosyst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wo examples of ecosyste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235960" y="1752480"/>
            <a:ext cx="490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humans helping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rting ecosystems? G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sons to support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swer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s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217600" y="1752480"/>
            <a:ext cx="43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gar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279520" y="1752480"/>
            <a:ext cx="50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grows below the s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 a pl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213280" y="1752480"/>
            <a:ext cx="549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water a living or nonli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ng? Expl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Jessica Ortolf</cp:lastModifiedBy>
  <dcterms:modified xsi:type="dcterms:W3CDTF">2013-10-02T11:42:53Z</dcterms:modified>
  <cp:revision>17</cp:revision>
  <dc:subject/>
  <dc:title>Slide 1</dc:title>
</cp:coreProperties>
</file>